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D82-ADD9-4A8E-9FAB-AD6B2000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02D-B323-436C-9EDA-FDB2D931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1A9-24FC-4D11-973A-720FCEBC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983-CBEF-472C-8FB5-65A30E37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487B-2A73-4DF4-AFA5-190DD62B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570-E9E5-4A5D-87EA-F019A41F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943-69CD-41BC-951B-72C57F05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B84-F103-4460-B941-CD519346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902-D953-4AFD-A92E-CC32D792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1B7-F215-445F-AC5C-CAEF9C77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8E1-8467-4523-B76C-2F727CA2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D9E-5EBE-4192-9717-647191E9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00A4-9B91-4D79-B47E-33028DA24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18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THEME 3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Marchés et prix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86676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hapitre 1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ment se forment les prix sur un marché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ubtitle 2"/>
          <p:cNvSpPr/>
          <p:nvPr/>
        </p:nvSpPr>
        <p:spPr>
          <a:xfrm>
            <a:off x="1641600" y="392040"/>
            <a:ext cx="91440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’offre sur le marché des roses rou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Graphique 4" descr=""/>
          <p:cNvPicPr/>
          <p:nvPr/>
        </p:nvPicPr>
        <p:blipFill>
          <a:blip r:embed="rId1"/>
          <a:stretch/>
        </p:blipFill>
        <p:spPr>
          <a:xfrm>
            <a:off x="1407960" y="1481040"/>
            <a:ext cx="6115320" cy="446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8393040" y="1758960"/>
          <a:ext cx="2525760" cy="3594240"/>
        </p:xfrm>
        <a:graphic>
          <a:graphicData uri="http://schemas.openxmlformats.org/drawingml/2006/table">
            <a:tbl>
              <a:tblPr/>
              <a:tblGrid>
                <a:gridCol w="1263600"/>
                <a:gridCol w="1262160"/>
              </a:tblGrid>
              <a:tr h="44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x (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ff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ubtitle 2"/>
          <p:cNvSpPr/>
          <p:nvPr/>
        </p:nvSpPr>
        <p:spPr>
          <a:xfrm>
            <a:off x="1641600" y="392040"/>
            <a:ext cx="91440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demande sur le marché des roses rou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Graphique 4" descr=""/>
          <p:cNvPicPr/>
          <p:nvPr/>
        </p:nvPicPr>
        <p:blipFill>
          <a:blip r:embed="rId1"/>
          <a:stretch/>
        </p:blipFill>
        <p:spPr>
          <a:xfrm>
            <a:off x="1212840" y="1523880"/>
            <a:ext cx="5950080" cy="458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8213760" y="1952640"/>
          <a:ext cx="2487600" cy="3641760"/>
        </p:xfrm>
        <a:graphic>
          <a:graphicData uri="http://schemas.openxmlformats.org/drawingml/2006/table">
            <a:tbl>
              <a:tblPr/>
              <a:tblGrid>
                <a:gridCol w="1225440"/>
                <a:gridCol w="1262160"/>
              </a:tblGrid>
              <a:tr h="455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x (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m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339040" y="2509920"/>
            <a:ext cx="3240360" cy="128088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EMAN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écroissante en fonction du prix :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quand le prix augmente, les quantités demandées diminu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8339040" y="4346640"/>
            <a:ext cx="3240360" cy="128916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FF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roissante en fonction du prix :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quand le prix augmente, les quantités offertes augment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849240" y="392040"/>
            <a:ext cx="1072836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’offre et la demande sur le marché des roses rou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Graphique 6" descr=""/>
          <p:cNvPicPr/>
          <p:nvPr/>
        </p:nvPicPr>
        <p:blipFill>
          <a:blip r:embed="rId1"/>
          <a:stretch/>
        </p:blipFill>
        <p:spPr>
          <a:xfrm>
            <a:off x="963720" y="1500120"/>
            <a:ext cx="64436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La loi de l’offre et de la deman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287000"/>
            <a:ext cx="1051560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Sur le marché, se rencontrent ………………………… émise par l’ensemble des vendeurs et </a:t>
            </a:r>
            <a:r>
              <a:rPr b="0" i="1" lang="fr-FR" sz="2600" spc="-1" strike="noStrike">
                <a:solidFill>
                  <a:srgbClr val="000000"/>
                </a:solidFill>
                <a:latin typeface="Calibri"/>
              </a:rPr>
              <a:t>………………………………..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émise par l’ensemble des acheteurs.  Les quantités offertes et demandées varient en fonction </a:t>
            </a:r>
            <a:r>
              <a:rPr b="0" i="1" lang="fr-FR" sz="2600" spc="-1" strike="noStrike">
                <a:solidFill>
                  <a:srgbClr val="000000"/>
                </a:solidFill>
                <a:latin typeface="Calibri"/>
              </a:rPr>
              <a:t>…………………………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a loi de l’offre énonce que l’offre varie dans le </a:t>
            </a:r>
            <a:r>
              <a:rPr b="0" i="1" lang="fr-FR" sz="2600" spc="-1" strike="noStrike">
                <a:solidFill>
                  <a:srgbClr val="000000"/>
                </a:solidFill>
                <a:latin typeface="Calibri"/>
              </a:rPr>
              <a:t>………………………………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que  le prix : si le prix augmente, les producteurs y verront une source de profit supplémentaire, ce qui va les inciter à </a:t>
            </a:r>
            <a:r>
              <a:rPr b="0" i="1" lang="fr-FR" sz="2600" spc="-1" strike="noStrike">
                <a:solidFill>
                  <a:srgbClr val="000000"/>
                </a:solidFill>
                <a:latin typeface="Calibri"/>
              </a:rPr>
              <a:t>……………………………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ur offre. A l’inverse, une baisse de prix fera </a:t>
            </a:r>
            <a:r>
              <a:rPr b="0" i="1" lang="fr-FR" sz="2600" spc="-1" strike="noStrike">
                <a:solidFill>
                  <a:srgbClr val="000000"/>
                </a:solidFill>
                <a:latin typeface="Calibri"/>
              </a:rPr>
              <a:t>……………………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’offre. La relation entre la quantité offerte et le prix est donc en général une relation ………………………………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a loi de la demande énonce que la demande varie dans le </a:t>
            </a:r>
            <a:r>
              <a:rPr b="0" i="1" lang="fr-FR" sz="2600" spc="-1" strike="noStrike">
                <a:solidFill>
                  <a:srgbClr val="000000"/>
                </a:solidFill>
                <a:latin typeface="Calibri"/>
              </a:rPr>
              <a:t>………………………………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u prix : si le prix augmente, les acheteurs seront moins intéressés par le produit et la demande va </a:t>
            </a:r>
            <a:r>
              <a:rPr b="0" i="1" lang="fr-FR" sz="2600" spc="-1" strike="noStrike">
                <a:solidFill>
                  <a:srgbClr val="000000"/>
                </a:solidFill>
                <a:latin typeface="Calibri"/>
              </a:rPr>
              <a:t>…………………… .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 l’inverse, une baisse du prix fera </a:t>
            </a:r>
            <a:r>
              <a:rPr b="0" i="1" lang="fr-FR" sz="2600" spc="-1" strike="noStrike">
                <a:solidFill>
                  <a:srgbClr val="000000"/>
                </a:solidFill>
                <a:latin typeface="Calibri"/>
              </a:rPr>
              <a:t>……………………….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a demande. La relation entre la quantité demandée et le prix est donc en général une relation ………………………………….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Le prix équilibre le marché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70120" y="1628640"/>
            <a:ext cx="105156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ix d’équilibre :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ix tel que la demande et l’offre soient ég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Question 1 :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uel est le prix d’équilibre sur le marché des roses rouges ? Quelles quantités (offertes et demandées) sont échangées à ce prix 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Question 2 :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upposons que le prix soit de 5 €. Quelles sont les quantités offertes et demandées ? Que va-t-il se passer selon vous 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Question 3 :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upposons que le prix soit de 3 €. Quelles sont les quantités offertes et demandées ? Que va-t-il se passer selon vous 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La formation de l’équilibre sur le marché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Le marché est en équilibre lorsque l’offre et la demande sont égales. Le prix d’équilibre est le prix qui égalise l’offre et la demand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Tant que l’offre n’est pas égale à la demande, le prix varie 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Quand l’offre est supérieure à la demande (O &gt; D) : le prix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……………………..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jusqu’à ce que l’offre soit égale à la demand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Quand l’offre est inférieure à la  demande  (O &lt; D) : le prix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………………………..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jusqu’à ce que l’offre soit égale à la demande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4032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 Light"/>
              </a:rPr>
              <a:t>SYNTHESE (1)</a:t>
            </a:r>
            <a:r>
              <a:rPr b="1" lang="fr-FR" sz="3600" spc="-1" strike="noStrike">
                <a:solidFill>
                  <a:srgbClr val="000000"/>
                </a:solidFill>
                <a:latin typeface="Calibri Light"/>
              </a:rPr>
              <a:t> </a:t>
            </a:r>
            <a:r>
              <a:rPr b="0" lang="fr-FR" sz="3600" spc="-1" strike="noStrike">
                <a:solidFill>
                  <a:srgbClr val="000000"/>
                </a:solidFill>
                <a:latin typeface="Calibri Light"/>
              </a:rPr>
              <a:t>: inférieure, les coûts de production, diminuent, augmentent, supérieure, l’équilibr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i les quantités offertes augmentent alors que les quantités demandées restent les mêmes, l’offre devient ……………………………… à la demande et donc les prix …………………………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i les quantités offertes diminuent alors que les quantités demandées restent les mêmes, l’offre devient …………………………… à la demande et donc les prix …………………………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lusieurs facteurs sont susceptibles de faire évoluer les quantités produites et donc de modifier ……………………….. sur le marché : le nombre d’offreurs, …………………………………………, mais aussi les aléas climatiqu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11372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 Light"/>
              </a:rPr>
              <a:t>SYNTHESE (2)</a:t>
            </a:r>
            <a:r>
              <a:rPr b="1" lang="fr-FR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 Light"/>
              </a:rPr>
              <a:t>:</a:t>
            </a:r>
            <a:r>
              <a:rPr b="0" lang="fr-FR" sz="3200" spc="-1" strike="noStrike">
                <a:solidFill>
                  <a:srgbClr val="000000"/>
                </a:solidFill>
                <a:latin typeface="Calibri Light"/>
              </a:rPr>
              <a:t> inférieure, les préférences des consommateurs, diminuent, augmentent, supérieure, l’équilibr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i les quantités demandées augmentent alors que les quantités offertes restent les mêmes, la demande devient …………………………. à l’offre et donc les prix ………………………….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i les quantités demandées diminuent alors que les quantités offertes restent les mêmes, la demande devient …………………………….  à l’offre et donc les prix …………………………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lusieurs facteurs sont susceptibles de faire évoluer les quantités demandées et donc de modifier …………………. sur le marché : le revenu des consommateurs, le prix des roses mais aussi les …………………………………………..…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9:09:37Z</dcterms:created>
  <dc:creator>Anna</dc:creator>
  <dc:description/>
  <dc:language>en-US</dc:language>
  <cp:lastModifiedBy>anonyme</cp:lastModifiedBy>
  <dcterms:modified xsi:type="dcterms:W3CDTF">2015-06-17T08:00:59Z</dcterms:modified>
  <cp:revision>58</cp:revision>
  <dc:subject/>
  <dc:title>Thème : Entreprises, production et marché</dc:title>
</cp:coreProperties>
</file>